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1B6-76AB-47C6-ABC7-4DE888B8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422-4A4B-4B28-AE6F-0221A6EC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981-5905-4C4A-A49F-88235A63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52BD-8507-4080-B791-6C8AA388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240F-25DF-409A-888D-F3411F63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7CBA-CE07-4E1B-A12C-AFDB8728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7304-ED9D-43E8-887F-9348E54E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F8D2-83B5-4EB2-853E-BF2C3BDF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F30E-F9F2-4A10-8476-2B11DE31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BDE1-1827-4EA5-80A3-118289CD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A595-98FE-49EA-8B2A-039B2227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7A7-BDD3-49F5-BD01-2366FD97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687B-0C9D-4987-AFC7-B89EFDFD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C24F-4D2A-43B2-8587-B3971C36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6ACE-5B60-46FD-9640-C29F9FC8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389D-34BA-485F-94F9-1E1BCA39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9D4F-B676-455A-A318-DCC934F6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22414-9472-478C-B065-2FBBEFAA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7CC2E-E79E-49C0-9EF6-E7376E84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F008B-76EE-4624-859D-BD782A14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46A4B-C661-4A83-A4E2-B7B777C4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728EB-72A6-4259-A3E4-735A87FF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446-8C6E-477B-BCEB-9BFE1A87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CAD96-45C9-4293-8BD6-0A1B1F06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56D6F-0A45-4252-966B-D08D55D0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8BBFF-AB23-4A3D-BA6D-7F8FB8C2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AFA1D-ED17-4D27-B04A-540272E1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A6886-ED90-45C1-ABAA-99819DF0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76567-D2C3-4711-AAA1-DC7F52C1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7B30D-D52B-440F-8BB4-4B2CFE00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5359C-B232-4DD6-8924-ACBCA4FE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A0084-F6C4-4731-848A-33F9ABAC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8519A-3106-480D-BC95-56D93AC7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2A2-17DA-4F24-B619-6B8BD75D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93B1D-3259-4019-870B-972F7C92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6F4BD-0D13-48D1-8F19-47B6903C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3766B-C0AE-4BF9-8513-2CF5D500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211B2-113D-4B26-9ADE-F3DC2422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4891D-FA0C-43DA-B599-7A0793B0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7C14F-5FE0-425F-AD8C-3E06B7FA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8CAB6-286F-4556-A909-030C557E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96AF9-A0BD-4EF7-8947-33E2B163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1D096-4480-4C03-8BF1-4A8AA10B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FB583-9597-45A9-8FB6-5FDA8240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790-0613-4D5C-86F3-D5B1C8CB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7D54A-031B-4287-9BCF-5A0FD21B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A7AF6-4D5F-46EC-8ADD-26EF02B2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D187E-AD5C-42EB-AEBF-9E78C199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0B0A0-3292-4825-879F-AAF5BC65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7E356-444B-4274-9CA4-8B9981C3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A780B-603C-4EC9-803A-C1CA966D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978E8-1C28-4AC9-A7DF-5F8CF93A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AC475-BC92-4201-ADA2-05A179B3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46EBE-5A47-4E61-9040-499C6EF8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EA62C-455E-4F16-96EE-7975F233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5E2-5B68-4D38-91D1-CADE6D9F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C31D2-ED4A-4930-8251-F6B2B537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D014F-B70A-4C95-BC78-07C50696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D2FEA-79CA-4CE2-96DB-8681CA48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12F30-02A5-4C02-9177-0F937F99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98DF6-866B-4393-BA31-BB6BD9B7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994DC-2814-4273-BAE0-08601436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87334-0E57-4059-A9FC-DB6E1C49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9CF9E-0AEE-4E72-980B-F0DF66DA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1319B-6B1F-49FF-9CB9-E0D041B4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E59A5-7165-4832-BCA2-75CD7743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A3C-0E3A-425C-A0E2-3B9C3C0F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5852A-9C4E-4EEC-ACC9-5FD2D407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B8BB6-0F47-470A-86A1-09ACC2D7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C1214-C95B-4C00-BBBF-F2AC83EB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37083-B500-497E-ACB3-E66617DF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1D6D6-2929-4A83-ACE8-F0C5CAB6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8BA8D-967A-4246-840C-E893F611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F3A2A-874B-4DA2-A8A1-3A25BB71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9C788-A548-4D3C-AFD0-6C81D44B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0DBFF-E006-48C1-831C-9697B268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23C11-8E89-40F4-9EEF-5ED10E36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55CE-2ED9-4865-A818-011208D1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4B3FF-FB3E-449F-9188-B2E68F3B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E6776-B969-48CB-8E02-28E76FD2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AB7E5-CDE7-45C8-B980-EFD8B550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04C33-73B1-4A99-91E2-27E6AFF0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48AF0-361D-42AE-8518-B363FFA5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A6724-C7F9-4E19-9C81-A126DE51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68D11-9AB3-4E6C-BAC5-5A8E6431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9DD22-F299-41ED-842F-909FD2FB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D08AC-ADC4-43CE-9588-211B1BC0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8C236-F121-4776-9C1D-EB692A95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C100-ADB6-4FD4-B5CD-FD470CBD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AE1A4-645F-4A1A-94E3-DF695539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5624C-F2E6-469D-AD0F-DFEEB351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55B7B-67A6-4F68-9841-130D198F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4CAC5-A3FF-4FE3-B19D-4BE6981E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D9EA1-0328-4A30-BBBD-ACB24F94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2223E-1340-4368-A920-6BCBAD89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9E13A-B148-408A-9609-469DC497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E920-9D48-4112-A3B3-1CE9B56ACC3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1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5 Forma libre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2da7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ada7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A5EB-E4D9-4DB7-8C48-3E5CBF1FB2C9}" type="slidenum">
              <a:rPr b="0" lang="es-ES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9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9C32-4BF1-4FFC-BA60-8DC3A6CAEC3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36"/>
            </a:gs>
            <a:gs pos="100000">
              <a:srgbClr val="7f7f8a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8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0 Forma libre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2da7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ada7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AB6B-7289-48F8-AFEB-29623EC5FCF1}" type="slidenum">
              <a:rPr b="0" lang="es-ES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36"/>
            </a:gs>
            <a:gs pos="100000">
              <a:srgbClr val="7f7f8a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8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0 Forma libre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2da7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ada7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7A6C-0EF6-435E-A850-BE1F4CB17F93}" type="slidenum">
              <a:rPr b="0" lang="es-ES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2da7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ada7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1E92-D381-4A1D-BCED-1262E53DB70C}" type="slidenum">
              <a:rPr b="0" lang="es-ES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11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5 Forma libre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2da7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ada7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A302-0BC4-4B6E-8FB2-C61D6E3C2C93}" type="slidenum">
              <a:rPr b="0" lang="es-ES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2da7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ada7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88F3-6CE1-45E6-824C-9E58171E4ECF}" type="slidenum">
              <a:rPr b="0" lang="es-ES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603360" y="426960"/>
            <a:ext cx="8216640" cy="1596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5892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66ff"/>
                </a:solidFill>
                <a:latin typeface="Forte"/>
              </a:rPr>
              <a:t>Los puer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99ff"/>
                </a:solidFill>
                <a:latin typeface="Forte"/>
              </a:rPr>
              <a:t>Localización de los puertos en un portátil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1015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http://www.notebookcheck.org/typo3temp/pics/6224a1b31a.jpg"/>
          <p:cNvPicPr/>
          <p:nvPr/>
        </p:nvPicPr>
        <p:blipFill>
          <a:blip r:embed="rId2"/>
          <a:stretch/>
        </p:blipFill>
        <p:spPr>
          <a:xfrm>
            <a:off x="2500200" y="4357800"/>
            <a:ext cx="3508560" cy="20066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http://www.evisos.com.co/images/advertisements/2009/05/29/portatil-hp-mini-color-roja_591a68a1_3.jpg"/>
          <p:cNvPicPr/>
          <p:nvPr/>
        </p:nvPicPr>
        <p:blipFill>
          <a:blip r:embed="rId3"/>
          <a:stretch/>
        </p:blipFill>
        <p:spPr>
          <a:xfrm>
            <a:off x="4857840" y="2286000"/>
            <a:ext cx="3809880" cy="2666880"/>
          </a:xfrm>
          <a:prstGeom prst="rect">
            <a:avLst/>
          </a:prstGeom>
          <a:ln w="0">
            <a:noFill/>
          </a:ln>
        </p:spPr>
      </p:pic>
      <p:sp>
        <p:nvSpPr>
          <p:cNvPr id="388" name="5 Rectángulo"/>
          <p:cNvSpPr/>
          <p:nvPr/>
        </p:nvSpPr>
        <p:spPr>
          <a:xfrm>
            <a:off x="6572160" y="4071960"/>
            <a:ext cx="1857600" cy="785880"/>
          </a:xfrm>
          <a:prstGeom prst="rect">
            <a:avLst/>
          </a:prstGeom>
          <a:noFill/>
          <a:ln w="25560">
            <a:solidFill>
              <a:srgbClr val="95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http://www.elparasitodelamanzana.com/wp-content/uploads/detalle-puertos-macbook.jpg"/>
          <p:cNvPicPr/>
          <p:nvPr/>
        </p:nvPicPr>
        <p:blipFill>
          <a:blip r:embed="rId4"/>
          <a:stretch/>
        </p:blipFill>
        <p:spPr>
          <a:xfrm>
            <a:off x="500040" y="1928880"/>
            <a:ext cx="43578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8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3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3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31640" y="692280"/>
            <a:ext cx="731340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99ff"/>
                </a:solidFill>
                <a:latin typeface="Forte"/>
              </a:rPr>
              <a:t>Tipos de puertos de un ordenador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030a0"/>
                </a:solidFill>
                <a:latin typeface="Verdana"/>
              </a:rPr>
              <a:t>Un </a:t>
            </a:r>
            <a:r>
              <a:rPr b="1" lang="es-ES" sz="2400" spc="-1" strike="noStrike" u="sng">
                <a:solidFill>
                  <a:srgbClr val="7030a0"/>
                </a:solidFill>
                <a:uFillTx/>
                <a:latin typeface="Verdana"/>
              </a:rPr>
              <a:t>puerto serie </a:t>
            </a:r>
            <a:r>
              <a:rPr b="0" lang="es-ES" sz="2400" spc="-1" strike="noStrike">
                <a:solidFill>
                  <a:srgbClr val="7030a0"/>
                </a:solidFill>
                <a:latin typeface="Verdana"/>
              </a:rPr>
              <a:t>es una interfaz de comunicaciones entre ordenadores y periféricos en donde la información es transmitida bit a bit enviando un solo bit a la vez</a:t>
            </a:r>
            <a:r>
              <a:rPr b="0" lang="es-ES" sz="3200" spc="-1" strike="noStrike">
                <a:solidFill>
                  <a:srgbClr val="7030a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7" descr="paralelo%20y%20serie"/>
          <p:cNvPicPr/>
          <p:nvPr/>
        </p:nvPicPr>
        <p:blipFill>
          <a:blip r:embed="rId1"/>
          <a:stretch/>
        </p:blipFill>
        <p:spPr>
          <a:xfrm>
            <a:off x="324000" y="3929040"/>
            <a:ext cx="345600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99ff"/>
                </a:solidFill>
                <a:latin typeface="Forte"/>
              </a:rPr>
              <a:t>Puerto PS2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57200" y="1714680"/>
            <a:ext cx="731376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030a0"/>
                </a:solidFill>
                <a:latin typeface="Verdana"/>
              </a:rPr>
              <a:t>El conector PS/2 o puerto PS/2 toma su nombre de la serie de ordenadores IBM Personal System/2 que es creada por IBM en 1987, y empleada para conectar teclados y ratones</a:t>
            </a:r>
            <a:r>
              <a:rPr b="0" lang="es-ES" sz="2000" spc="-1" strike="noStrike">
                <a:solidFill>
                  <a:srgbClr val="6700e5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5" descr="http://1.bp.blogspot.com/_I5ep3WFhLiU/SXM4NyY85tI/AAAAAAAABEg/q_ugY9tuQUo/s400/ps2_usb.jpg"/>
          <p:cNvPicPr/>
          <p:nvPr/>
        </p:nvPicPr>
        <p:blipFill>
          <a:blip r:embed="rId1"/>
          <a:stretch/>
        </p:blipFill>
        <p:spPr>
          <a:xfrm>
            <a:off x="500040" y="3357720"/>
            <a:ext cx="4286160" cy="2962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http://akamaipix.crutchfield.com/lifestyle/2001/hPS2KeyboardPlug.jpeg"/>
          <p:cNvPicPr/>
          <p:nvPr/>
        </p:nvPicPr>
        <p:blipFill>
          <a:blip r:embed="rId2"/>
          <a:stretch/>
        </p:blipFill>
        <p:spPr>
          <a:xfrm>
            <a:off x="5000760" y="3286080"/>
            <a:ext cx="3929040" cy="2809800"/>
          </a:xfrm>
          <a:prstGeom prst="rect">
            <a:avLst/>
          </a:prstGeom>
          <a:ln w="0">
            <a:noFill/>
          </a:ln>
        </p:spPr>
      </p:pic>
      <p:cxnSp>
        <p:nvCxnSpPr>
          <p:cNvPr id="353" name="12 Conector recto de flecha"/>
          <p:cNvCxnSpPr/>
          <p:nvPr/>
        </p:nvCxnSpPr>
        <p:spPr>
          <a:xfrm flipH="1">
            <a:off x="4214160" y="2857320"/>
            <a:ext cx="57204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14 Conector recto de flecha"/>
          <p:cNvCxnSpPr/>
          <p:nvPr/>
        </p:nvCxnSpPr>
        <p:spPr>
          <a:xfrm flipH="1">
            <a:off x="2714400" y="2857680"/>
            <a:ext cx="786240" cy="78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9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99ff"/>
                </a:solidFill>
                <a:latin typeface="Forte"/>
              </a:rPr>
              <a:t>Puertos paralelo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700e5"/>
                </a:solidFill>
                <a:latin typeface="Verdana"/>
              </a:rPr>
              <a:t>Los puertos físicos, son aquellos como el puerto  de una computadora. En este tipo de puertos, se puede llegar a conectar: un monitor, la impresora, el escáner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5" descr="http://2.bp.blogspot.com/_0mQ_CzmpX4M/Rv9S8JjoOPI/AAAAAAAAAK4/tUPaQr0CKD8/s400/800px-Scsi_extern_db25_st.jpg"/>
          <p:cNvPicPr/>
          <p:nvPr/>
        </p:nvPicPr>
        <p:blipFill>
          <a:blip r:embed="rId1"/>
          <a:stretch/>
        </p:blipFill>
        <p:spPr>
          <a:xfrm>
            <a:off x="5334120" y="4143240"/>
            <a:ext cx="3809880" cy="2500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http://www.mod-pc.com/modules/Tienda/bimages/W011_big.jpg"/>
          <p:cNvPicPr/>
          <p:nvPr/>
        </p:nvPicPr>
        <p:blipFill>
          <a:blip r:embed="rId2"/>
          <a:stretch/>
        </p:blipFill>
        <p:spPr>
          <a:xfrm>
            <a:off x="0" y="3786120"/>
            <a:ext cx="4762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3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8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99ff"/>
                </a:solidFill>
                <a:latin typeface="Forte"/>
              </a:rPr>
              <a:t>Puertos USB</a:t>
            </a:r>
            <a:r>
              <a:rPr b="1" lang="es-ES" sz="3600" spc="-1" strike="noStrike">
                <a:solidFill>
                  <a:srgbClr val="33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167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700e5"/>
                </a:solidFill>
                <a:latin typeface="Verdana"/>
              </a:rPr>
              <a:t>Permite conectar hasta 127 dispositivos y ya es un estándar en los ordenadores de última generación, que incluyen al menos dos puertos USB 1.1, o puertos USB 2.0 en los más moderno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Picture 9" descr="http://www.cepolina.com/fotolibre/f/Otros.objetos.de.la.tecnologala/Ordenador.puerto.USB.jpg"/>
          <p:cNvPicPr/>
          <p:nvPr/>
        </p:nvPicPr>
        <p:blipFill>
          <a:blip r:embed="rId1"/>
          <a:stretch/>
        </p:blipFill>
        <p:spPr>
          <a:xfrm>
            <a:off x="285840" y="3643200"/>
            <a:ext cx="3929040" cy="27860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1" descr="http://www.ordenadores-y-portatiles.com/images/cable-usb2.jpg"/>
          <p:cNvPicPr/>
          <p:nvPr/>
        </p:nvPicPr>
        <p:blipFill>
          <a:blip r:embed="rId2"/>
          <a:stretch/>
        </p:blipFill>
        <p:spPr>
          <a:xfrm>
            <a:off x="5143680" y="3643200"/>
            <a:ext cx="35715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4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3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99ff"/>
                </a:solidFill>
                <a:latin typeface="Forte"/>
              </a:rPr>
              <a:t>Puertos de sonido y micro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3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700e5"/>
                </a:solidFill>
                <a:latin typeface="Verdana"/>
              </a:rPr>
              <a:t>Son aquellos puertos que permiten conectar el microprocesador con los altavoces y el micr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5" descr="http://www.misscompras.com/uploaded/normal/plantronics-cascos-con-microfono-pc-estereo-audio-326-hub-4-puertos-usb-20-auriculares-y-microfonos-de-plantronics.jpg"/>
          <p:cNvPicPr/>
          <p:nvPr/>
        </p:nvPicPr>
        <p:blipFill>
          <a:blip r:embed="rId1"/>
          <a:stretch/>
        </p:blipFill>
        <p:spPr>
          <a:xfrm>
            <a:off x="428760" y="3071880"/>
            <a:ext cx="3929040" cy="3429000"/>
          </a:xfrm>
          <a:prstGeom prst="rect">
            <a:avLst/>
          </a:prstGeom>
          <a:ln w="0">
            <a:noFill/>
          </a:ln>
        </p:spPr>
      </p:pic>
      <p:grpSp>
        <p:nvGrpSpPr>
          <p:cNvPr id="366" name="4 Flecha izquierda"/>
          <p:cNvGrpSpPr/>
          <p:nvPr/>
        </p:nvGrpSpPr>
        <p:grpSpPr>
          <a:xfrm>
            <a:off x="2779560" y="3882960"/>
            <a:ext cx="2219400" cy="1470240"/>
            <a:chOff x="2779560" y="3882960"/>
            <a:chExt cx="2219400" cy="1470240"/>
          </a:xfrm>
        </p:grpSpPr>
        <p:pic>
          <p:nvPicPr>
            <p:cNvPr id="367" name="4 Flecha izquierda" descr=""/>
            <p:cNvPicPr/>
            <p:nvPr/>
          </p:nvPicPr>
          <p:blipFill>
            <a:blip r:embed="rId2"/>
            <a:stretch/>
          </p:blipFill>
          <p:spPr>
            <a:xfrm>
              <a:off x="2779560" y="3882960"/>
              <a:ext cx="2219400" cy="14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197160" y="4268880"/>
              <a:ext cx="16606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6 Elipse"/>
          <p:cNvSpPr/>
          <p:nvPr/>
        </p:nvSpPr>
        <p:spPr>
          <a:xfrm>
            <a:off x="2643120" y="5214960"/>
            <a:ext cx="857160" cy="714240"/>
          </a:xfrm>
          <a:prstGeom prst="ellipse">
            <a:avLst/>
          </a:prstGeom>
          <a:noFill/>
          <a:ln w="25560">
            <a:solidFill>
              <a:srgbClr val="95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99ff"/>
                </a:solidFill>
                <a:latin typeface="Forte"/>
              </a:rPr>
              <a:t>Puerto de red o Etherne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69800" y="1827360"/>
            <a:ext cx="7313400" cy="13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700e5"/>
                </a:solidFill>
                <a:latin typeface="Verdana"/>
              </a:rPr>
              <a:t>Es un cable que se encarga de conectar al usuario atravez del uso de un router con intern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2" name="Picture 4" descr="C:\Users\Usuario\Pictures\Álbumes de fotos\fotos variadas\SDC10242.JPG"/>
          <p:cNvPicPr/>
          <p:nvPr/>
        </p:nvPicPr>
        <p:blipFill>
          <a:blip r:embed="rId1"/>
          <a:stretch/>
        </p:blipFill>
        <p:spPr>
          <a:xfrm>
            <a:off x="0" y="3071880"/>
            <a:ext cx="3286080" cy="2214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C:\Users\Usuario\Pictures\Álbumes de fotos\fotos variadas\SDC10245.JPG"/>
          <p:cNvPicPr/>
          <p:nvPr/>
        </p:nvPicPr>
        <p:blipFill>
          <a:blip r:embed="rId2"/>
          <a:stretch/>
        </p:blipFill>
        <p:spPr>
          <a:xfrm>
            <a:off x="5553000" y="2857680"/>
            <a:ext cx="3591000" cy="3286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C:\Users\Usuario\Pictures\Álbumes de fotos\fotos variadas\SDC10247.JPG"/>
          <p:cNvPicPr/>
          <p:nvPr/>
        </p:nvPicPr>
        <p:blipFill>
          <a:blip r:embed="rId3"/>
          <a:stretch/>
        </p:blipFill>
        <p:spPr>
          <a:xfrm>
            <a:off x="2571840" y="4357800"/>
            <a:ext cx="3071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99ff"/>
                </a:solidFill>
                <a:latin typeface="Forte"/>
              </a:rPr>
              <a:t>Puertos inalámbrico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369800" y="1827000"/>
            <a:ext cx="7313400" cy="167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030a0"/>
                </a:solidFill>
                <a:latin typeface="Verdana"/>
              </a:rPr>
              <a:t>Es un tipo de puerto cuya conexión no se hace por cable, sino que se conecta al receptor atravez de ondas electromagnétic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7" name="Picture 2" descr="http://imagenes.solostocks.com/z14639554/trust-raton-inalambrico-15902-hub-4-puertos-usb-2-0-distribuidor-de-100-toal.jpg"/>
          <p:cNvPicPr/>
          <p:nvPr/>
        </p:nvPicPr>
        <p:blipFill>
          <a:blip r:embed="rId1"/>
          <a:stretch/>
        </p:blipFill>
        <p:spPr>
          <a:xfrm>
            <a:off x="0" y="4210200"/>
            <a:ext cx="2928960" cy="2647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http://imagenes.solostocks.com/z14446480/d-link-modem-router-adsl2-inalambrico-11-54mbps-con-switch-4-puertos-10-100mbp.jpg"/>
          <p:cNvPicPr/>
          <p:nvPr/>
        </p:nvPicPr>
        <p:blipFill>
          <a:blip r:embed="rId2"/>
          <a:stretch/>
        </p:blipFill>
        <p:spPr>
          <a:xfrm>
            <a:off x="6072120" y="2714760"/>
            <a:ext cx="3071880" cy="21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http://www.appinformatica.com/imf/teclados-genius-ergomedia-r800-inalambrico-2.4ghz-1g.jpg"/>
          <p:cNvPicPr/>
          <p:nvPr/>
        </p:nvPicPr>
        <p:blipFill>
          <a:blip r:embed="rId3"/>
          <a:stretch/>
        </p:blipFill>
        <p:spPr>
          <a:xfrm>
            <a:off x="2857680" y="4181400"/>
            <a:ext cx="39290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99ff"/>
                </a:solidFill>
                <a:latin typeface="Forte"/>
              </a:rPr>
              <a:t>Localización de los puertos en un ordenador de sobremes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370160" y="5928840"/>
            <a:ext cx="5559120" cy="71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http://4.bp.blogspot.com/_0AXN8wU9wEI/St7znvxd-dI/AAAAAAAAABU/xZVmP_4Imzc/s320/puertos-de-un-ordenador.jpg"/>
          <p:cNvPicPr/>
          <p:nvPr/>
        </p:nvPicPr>
        <p:blipFill>
          <a:blip r:embed="rId2"/>
          <a:stretch/>
        </p:blipFill>
        <p:spPr>
          <a:xfrm>
            <a:off x="0" y="2500200"/>
            <a:ext cx="4357800" cy="4119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http://www.euskalnet.net/txotxe/images/dell-gx260.jpg"/>
          <p:cNvPicPr/>
          <p:nvPr/>
        </p:nvPicPr>
        <p:blipFill>
          <a:blip r:embed="rId3"/>
          <a:stretch/>
        </p:blipFill>
        <p:spPr>
          <a:xfrm>
            <a:off x="5357880" y="1571760"/>
            <a:ext cx="37861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8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9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0:35:16Z</dcterms:created>
  <dc:creator>Proyecto Medusa</dc:creator>
  <dc:description/>
  <dc:language>en-US</dc:language>
  <cp:lastModifiedBy>Usuario</cp:lastModifiedBy>
  <dcterms:modified xsi:type="dcterms:W3CDTF">2010-02-01T11:56:29Z</dcterms:modified>
  <cp:revision>20</cp:revision>
  <dc:subject/>
  <dc:title>Componentes de un ordenador</dc:title>
</cp:coreProperties>
</file>